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645-3619-4113-AE5F-DF392456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959-27B7-43F0-AFF6-D4B0BDE9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44A-C66D-4B52-9B18-065F8C7A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13B-E8A6-466B-94AA-45ECAEEF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750-6534-4372-B69F-70FA3562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2CE-AB74-49BB-A3A5-6FD96CB8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CEF-D54B-4167-B6CD-246594F6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5DD-1354-4129-B5FB-0A58174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575-8008-484F-AFEF-2639FC4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975-6C17-4788-85B2-F2C0F2E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906-97A0-4657-87E7-9DFAD97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2C9-C2C6-4904-8219-BE00C0EB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F275-87C1-4A23-956A-BE1CCC89790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320" y="1023840"/>
            <a:ext cx="5086440" cy="952560"/>
          </a:xfrm>
          <a:prstGeom prst="rect">
            <a:avLst/>
          </a:prstGeom>
          <a:solidFill>
            <a:srgbClr val="ffc0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QUE SON OS MITOS?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5024520"/>
            <a:ext cx="450072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Mytos -oposto a logos- refírese a un relato que explica, con medios que exclúen a razón, aqueles acontecementos da experiencia humana que non atopan outra vía para seren interpret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dioses_griegos"/>
          <p:cNvPicPr/>
          <p:nvPr/>
        </p:nvPicPr>
        <p:blipFill>
          <a:blip r:embed="rId1"/>
          <a:stretch/>
        </p:blipFill>
        <p:spPr>
          <a:xfrm>
            <a:off x="1417680" y="2255760"/>
            <a:ext cx="4154400" cy="2911680"/>
          </a:xfrm>
          <a:prstGeom prst="rect">
            <a:avLst/>
          </a:prstGeom>
          <a:ln w="0">
            <a:noFill/>
          </a:ln>
        </p:spPr>
      </p:pic>
      <p:sp>
        <p:nvSpPr>
          <p:cNvPr id="4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746A-93C2-4235-B9F2-73E7E15260F8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809640"/>
            <a:ext cx="45864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lang="gl-ES" sz="4400" spc="-1" strike="noStrike">
                <a:solidFill>
                  <a:srgbClr val="ff0000"/>
                </a:solidFill>
                <a:latin typeface="DK Thievery"/>
              </a:rPr>
              <a:t>relato bíblico </a:t>
            </a: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da </a:t>
            </a:r>
            <a:r>
              <a:rPr b="1" i="1" lang="gl-ES" sz="4400" spc="-1" strike="noStrike">
                <a:solidFill>
                  <a:srgbClr val="000000"/>
                </a:solidFill>
                <a:latin typeface="DK Thievery"/>
              </a:rPr>
              <a:t>Creació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85520" y="4167000"/>
            <a:ext cx="54435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o principio creou Deus os ceos e maila terra. E a terra estaba desordenada e baleira e as tebras pairaban sobre a face do abismo e o Espírito de Deus axitábase sobre a face das au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dixo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-Sexa a luz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a luz fo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Deus viu que a luz era boa e separou a luz das tebras e á luz chamoulle Día e ás tebras N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2018_el_bosco_el_jardin_de_las_delicias_arte_poster"/>
          <p:cNvPicPr/>
          <p:nvPr/>
        </p:nvPicPr>
        <p:blipFill>
          <a:blip r:embed="rId1"/>
          <a:srcRect l="0" t="18899" r="0" b="0"/>
          <a:stretch/>
        </p:blipFill>
        <p:spPr>
          <a:xfrm>
            <a:off x="2549520" y="2309760"/>
            <a:ext cx="1808280" cy="1755720"/>
          </a:xfrm>
          <a:prstGeom prst="rect">
            <a:avLst/>
          </a:prstGeom>
          <a:ln w="0">
            <a:noFill/>
          </a:ln>
        </p:spPr>
      </p:pic>
      <p:sp>
        <p:nvSpPr>
          <p:cNvPr id="80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DD7-2B10-40D0-BB25-AC90BD316B8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1023480"/>
            <a:ext cx="61722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 relato da creación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no </a:t>
            </a: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Rig Ved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8880" y="5310360"/>
            <a:ext cx="39290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No comezo a escuridade escondía a escur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Todo era auga indiferenc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nvolto no baleiro, devi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se “un” surxiu polo poder da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O desexo desceu sobre iso no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 foi a primeira semente do pen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           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EL%2BVEDA%2BILUSTRADO"/>
          <p:cNvPicPr/>
          <p:nvPr/>
        </p:nvPicPr>
        <p:blipFill>
          <a:blip r:embed="rId1"/>
          <a:stretch/>
        </p:blipFill>
        <p:spPr>
          <a:xfrm>
            <a:off x="1928880" y="2309760"/>
            <a:ext cx="3228840" cy="2836800"/>
          </a:xfrm>
          <a:prstGeom prst="rect">
            <a:avLst/>
          </a:prstGeom>
          <a:ln w="0">
            <a:noFill/>
          </a:ln>
        </p:spPr>
      </p:pic>
      <p:sp>
        <p:nvSpPr>
          <p:cNvPr id="8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ADAC-33D0-4EB9-88F8-2F399E4E164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87300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Popol Vuh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,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relato maia da creació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4240" y="5181480"/>
            <a:ext cx="542952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Fágase así! Que o baleiro se encha! Que esta auga se retire e desocupe o espazo e surxa a terra e que se afirme! Así dix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Que aclare, que amañeza no ceo e na terra! Non haberá gloria nin grandeza na nosa creación até que exista a criatura humana. Así dixer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46854_creation-popol-vuh_big"/>
          <p:cNvPicPr/>
          <p:nvPr/>
        </p:nvPicPr>
        <p:blipFill>
          <a:blip r:embed="rId1"/>
          <a:stretch/>
        </p:blipFill>
        <p:spPr>
          <a:xfrm>
            <a:off x="2349360" y="2430360"/>
            <a:ext cx="2463840" cy="2594160"/>
          </a:xfrm>
          <a:prstGeom prst="rect">
            <a:avLst/>
          </a:prstGeom>
          <a:ln w="0">
            <a:noFill/>
          </a:ln>
        </p:spPr>
      </p:pic>
      <p:sp>
        <p:nvSpPr>
          <p:cNvPr id="8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50D9-5C9C-443D-86DF-6C2962A07D9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804600"/>
            <a:ext cx="572940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Creación no</a:t>
            </a:r>
            <a:br>
              <a:rPr sz="4000"/>
            </a:b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Enuma Elish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babilónico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600" y="5649480"/>
            <a:ext cx="5429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ando no alto non se nomeaba o ce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en baixo a terra non tiña no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 océano primordial, Apsu, seu p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da tumultuosa Tia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nai de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súas augas nunha se fundí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ningún campo estaba form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in se vían panta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ando ningún dos deuses tiña s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hamado a existenc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odigo%2Bde%2Bhammurabi"/>
          <p:cNvPicPr/>
          <p:nvPr/>
        </p:nvPicPr>
        <p:blipFill>
          <a:blip r:embed="rId1"/>
          <a:srcRect l="7199" t="13019" r="8783" b="0"/>
          <a:stretch/>
        </p:blipFill>
        <p:spPr>
          <a:xfrm>
            <a:off x="2500200" y="2583000"/>
            <a:ext cx="1890720" cy="2941560"/>
          </a:xfrm>
          <a:prstGeom prst="rect">
            <a:avLst/>
          </a:prstGeom>
          <a:ln w="0">
            <a:noFill/>
          </a:ln>
        </p:spPr>
      </p:pic>
      <p:sp>
        <p:nvSpPr>
          <p:cNvPr id="9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5DF-24DC-4A13-8E3C-3D439B0191F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Rectángulo">
            <a:hlinkClick r:id="rId2"/>
          </p:cNvPr>
          <p:cNvSpPr/>
          <p:nvPr/>
        </p:nvSpPr>
        <p:spPr>
          <a:xfrm>
            <a:off x="3143160" y="859644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095480"/>
            <a:ext cx="5857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temática dos mit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840" y="402408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Refírense en todas as cultura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As orixes do universo, a súa creación, cosmogonías e teogoní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s amores, apareamentos, nacementos, fazañas de deuses e de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As causas dos diversos fenómenos naturais ou dos cultos existentes e das condutas humanas, con exemplos extraídos dos deuses.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As cousas que pasaron en tempos remotísimos, xa que os deuses sitúanse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lonxe no espazo e no tempo, aínda que os comportamentos de deuses e humanos sexa moi semellante nas narracións m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212091463672168506_3nzh6ERj_c"/>
          <p:cNvPicPr/>
          <p:nvPr/>
        </p:nvPicPr>
        <p:blipFill>
          <a:blip r:embed="rId1"/>
          <a:stretch/>
        </p:blipFill>
        <p:spPr>
          <a:xfrm>
            <a:off x="1214280" y="1952640"/>
            <a:ext cx="4710240" cy="2000160"/>
          </a:xfrm>
          <a:prstGeom prst="rect">
            <a:avLst/>
          </a:prstGeom>
          <a:ln w="0">
            <a:noFill/>
          </a:ln>
        </p:spPr>
      </p:pic>
      <p:sp>
        <p:nvSpPr>
          <p:cNvPr id="4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E08-4212-4317-90A8-C456AE1345E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809280"/>
            <a:ext cx="587232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 para dar e toma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6760" y="359532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Gregos e romanos mantiveron un panteón que se entretiña en continuas rifas e que a cotío tamén interviña 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vidas dos h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Os mitos gregos e a súa posterior asimilación romana informan toda a cultura occidental posterior: na pintura, na escultura, na música, na literatura, na astronomí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onstelaciones"/>
          <p:cNvPicPr/>
          <p:nvPr/>
        </p:nvPicPr>
        <p:blipFill>
          <a:blip r:embed="rId1"/>
          <a:stretch/>
        </p:blipFill>
        <p:spPr>
          <a:xfrm>
            <a:off x="903240" y="1728720"/>
            <a:ext cx="5311800" cy="1724040"/>
          </a:xfrm>
          <a:prstGeom prst="rect">
            <a:avLst/>
          </a:prstGeom>
          <a:ln w="0">
            <a:noFill/>
          </a:ln>
        </p:spPr>
      </p:pic>
      <p:sp>
        <p:nvSpPr>
          <p:cNvPr id="5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256-068C-411D-AC97-7D648C85F24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023840"/>
            <a:ext cx="4657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Ícar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5024520"/>
            <a:ext cx="5500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Dédalo era un soberbio inventor, que traballaba vulgarmente co seu sobriño Talo, do cal estaba encargado d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Talo, un dia, após pasear pola praia, viu o esqueleto dun peixe, forma na cal se viría a inspirar para criar a primeira serra. Con algunha envexa, Dédalo tentou matar este seu sobriño, ceibándoo dun sitio alto. Malia iso, antes que alcanzase o chan, os deuses intervirían, e o mozo foi transformado nunha perdiz, que voou para evitar a desgraza inmin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Culpado de homicidio, Dédalo foi obrigado a abandonar a cidade natal, indo refuxiarse en Creta, a illa do famoso rei Minos. Alí, foi incumbido de construír un labirinto, onde o famoso Minotauro viría a ser apris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Seria, mais tarde, impedido de deixar esta illa, cando concibiu a súa máis famosa invención, unhas ás que lle permitirían voar. Pretendía, xuntamente co fillo, Ïcaro, usalas para escapar da illa. Ignorando os consellos de Dédalo, Ïcaro voou demasiado alto, o que fixo que a cera que prendía as ás derretese, precipitándoo no m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caro2"/>
          <p:cNvPicPr/>
          <p:nvPr/>
        </p:nvPicPr>
        <p:blipFill>
          <a:blip r:embed="rId1"/>
          <a:stretch/>
        </p:blipFill>
        <p:spPr>
          <a:xfrm>
            <a:off x="2071800" y="1809720"/>
            <a:ext cx="2859120" cy="2989440"/>
          </a:xfrm>
          <a:prstGeom prst="rect">
            <a:avLst/>
          </a:prstGeom>
          <a:ln w="0">
            <a:noFill/>
          </a:ln>
        </p:spPr>
      </p:pic>
      <p:sp>
        <p:nvSpPr>
          <p:cNvPr id="56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E21-9572-45F6-8BD4-F497B8765B7C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809640"/>
            <a:ext cx="5643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Orfe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880" y="4667040"/>
            <a:ext cx="521496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400" spc="-1" strike="noStrike">
                <a:solidFill>
                  <a:srgbClr val="224b50"/>
                </a:solidFill>
                <a:latin typeface="DK Thievery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Nas marxes dun río Orfeo laiábase desconsolado pola perda da súa amada Eurídice que acababa de morrer. Alí tocou cancións tan tristes que todas as ninfas e os deuses conmovéronse e choraron e despois aconselláronlle que baixase ao Hades na procura da súa esposa morta. No camiño, Orfeo debeu arrostrar moitos perigos; empregando a súa música fixo que se detivesen os tormentos do inferno por primeira e única vez e, cando chegou o momento, Hades e Perséfone, amolecidos pola súa pena e pola súa música, permitiron a Eurídice volver ao mundo dos vivos con Orfeo, a condición de que el fose diante dela e de que non ollase para atrás até chegaren ao mundo superior e os raios de 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acariciasen á mull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Malia ao seu desexo, Orfeo cumpriu a promesa todo o traxecto, pero despois de superar os perigos da volta e cando xa estaban na superficie Orfeo non puido máis e volveuse cara ela con impaciencia cando aínda o sol non bañara completamente o corpo de Eurídice, e perdeuna outra vez e desta para sempre. 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ANd9GcR2GfCJhCTAfks7USc6YiCe7k_QGdaV4sFrA-DsJx6bpdNhBwJ2"/>
          <p:cNvPicPr/>
          <p:nvPr/>
        </p:nvPicPr>
        <p:blipFill>
          <a:blip r:embed="rId1"/>
          <a:stretch/>
        </p:blipFill>
        <p:spPr>
          <a:xfrm>
            <a:off x="2214720" y="1666800"/>
            <a:ext cx="2474640" cy="2854440"/>
          </a:xfrm>
          <a:prstGeom prst="rect">
            <a:avLst/>
          </a:prstGeom>
          <a:ln w="0">
            <a:noFill/>
          </a:ln>
        </p:spPr>
      </p:pic>
      <p:sp>
        <p:nvSpPr>
          <p:cNvPr id="60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8EB-F028-4D47-80E3-D2A3C259C3E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1023840"/>
            <a:ext cx="51577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Narcis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4024080"/>
            <a:ext cx="53578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Narciso era un rapaz belísimo, fillo do deus do río e mais dunha ninfa. Cando naceu os pais consultaron un oráculo por saberlle o destino e este respondeu que había ter unha vida longa sempre que non vise a súa propia 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Moitas mozas se namoraron del cando chegou á idade adulta, pero el non estaba interesado en ningunha. A ninfa Eco, unha das máis apaixonadas, non se conformou con tal indiferenza e afastouse a un lugar deserto para alí ir consumíndose até que dela non quedaron máis que os seus laios. As mozas desprezadas acudiron aos deuses para seren ving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Némesis apiadouse delas e, despois dun día de caza, un día caloroso, incitou a Narciso a que se achegase ao río para beber auga e apagar a sede. Ao abeirarse do río ficou inmóbil na contemplación da súa face reflectida, tan bela lle pareceu. Así morreu e até no Hades intentaba ollar nas augas da Estixia as feituras polas que se apaixona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itologia-grega"/>
          <p:cNvPicPr/>
          <p:nvPr/>
        </p:nvPicPr>
        <p:blipFill>
          <a:blip r:embed="rId1"/>
          <a:stretch/>
        </p:blipFill>
        <p:spPr>
          <a:xfrm>
            <a:off x="1814400" y="1881360"/>
            <a:ext cx="3186360" cy="1987200"/>
          </a:xfrm>
          <a:prstGeom prst="rect">
            <a:avLst/>
          </a:prstGeom>
          <a:ln w="0">
            <a:noFill/>
          </a:ln>
        </p:spPr>
      </p:pic>
      <p:sp>
        <p:nvSpPr>
          <p:cNvPr id="64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6F8-CF15-4FCC-ABAD-1472141C1A2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5680" y="952200"/>
            <a:ext cx="49435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 e relixión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9720" y="4452480"/>
            <a:ext cx="4786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Hoxe o termo “mito” resérvase para as historias e crenzas de relixións antiquísimas e sen culto na actualidade, en canto que as relixións darían satisfacción a ese mesmo afán de interpretación do que é inasequíbel para a razón, nas diferentes culturas do mundo mod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Dioses%2525Egipcios"/>
          <p:cNvPicPr/>
          <p:nvPr/>
        </p:nvPicPr>
        <p:blipFill>
          <a:blip r:embed="rId1"/>
          <a:stretch/>
        </p:blipFill>
        <p:spPr>
          <a:xfrm>
            <a:off x="1484280" y="1832040"/>
            <a:ext cx="4003560" cy="2477880"/>
          </a:xfrm>
          <a:prstGeom prst="rect">
            <a:avLst/>
          </a:prstGeom>
          <a:ln w="0">
            <a:noFill/>
          </a:ln>
        </p:spPr>
      </p:pic>
      <p:sp>
        <p:nvSpPr>
          <p:cNvPr id="6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66A-AEEA-4C45-B718-2BBD576B28A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095120"/>
            <a:ext cx="60152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, relixións e cultura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5520" y="4524480"/>
            <a:ext cx="542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Mitos e relixións canalizan a visión do mundo das comunidades que os xeran e manteñen, por iso cada cultura ten os seus propios. Responden ás necesidades que a colectividade tiña no momento en que xorden e despois se modifican ou manteñen en función das necesidades sociais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dos avatares histór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8immortals2"/>
          <p:cNvPicPr/>
          <p:nvPr/>
        </p:nvPicPr>
        <p:blipFill>
          <a:blip r:embed="rId1"/>
          <a:stretch/>
        </p:blipFill>
        <p:spPr>
          <a:xfrm>
            <a:off x="2214720" y="2095560"/>
            <a:ext cx="2500200" cy="2263680"/>
          </a:xfrm>
          <a:prstGeom prst="rect">
            <a:avLst/>
          </a:prstGeom>
          <a:ln w="0">
            <a:noFill/>
          </a:ln>
        </p:spPr>
      </p:pic>
      <p:sp>
        <p:nvSpPr>
          <p:cNvPr id="7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EB11-2C5E-4AAE-94C7-43B5CC84B76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1023480"/>
            <a:ext cx="580068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s relixións no mund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4240" y="4667040"/>
            <a:ext cx="5429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Na actualidade hai innúmeros cultos relixiosos, algúns de enorme expansión e outros, seitas cun limitado número de seguidores. Teístas, dualistas, panteístas e mesmo non teístas, reveladas e non reveladas, antiquísimas e moi rece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n todo caso, os crentes deben “imaxinar” pois as ideas relixiosas están referidas a mundos, seres e conceptos non verific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anteon+Hindu"/>
          <p:cNvPicPr/>
          <p:nvPr/>
        </p:nvPicPr>
        <p:blipFill>
          <a:blip r:embed="rId1"/>
          <a:stretch/>
        </p:blipFill>
        <p:spPr>
          <a:xfrm>
            <a:off x="1298520" y="1938240"/>
            <a:ext cx="4273560" cy="2617920"/>
          </a:xfrm>
          <a:prstGeom prst="rect">
            <a:avLst/>
          </a:prstGeom>
          <a:ln w="0">
            <a:noFill/>
          </a:ln>
        </p:spPr>
      </p:pic>
      <p:sp>
        <p:nvSpPr>
          <p:cNvPr id="76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41FA-DF03-44B9-A20D-0A6A798EDAF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6:06Z</dcterms:created>
  <dc:creator>USER</dc:creator>
  <dc:description/>
  <dc:language>en-US</dc:language>
  <cp:lastModifiedBy>Usuario</cp:lastModifiedBy>
  <dcterms:modified xsi:type="dcterms:W3CDTF">2013-04-15T09:48:34Z</dcterms:modified>
  <cp:revision>20</cp:revision>
  <dc:subject/>
  <dc:title>Mitos e relixións</dc:title>
</cp:coreProperties>
</file>